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45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76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EE89-8964-425E-B9A9-A7680C419C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B081-E0CA-438E-A191-F2EC9049ED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A632-30EB-4E6E-ADEB-767FB5FF98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8674-C04F-4666-BE31-A9303BC532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45F5-993A-45BC-90FB-7D4CF1B6C9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AFCF-B34B-43B8-874F-C76B207F47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9381-EDAE-4AC0-81CB-563521ED83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8E7F-494B-4AE3-BBC2-A6A5BC5B6A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9732-219D-46B4-B07B-34499CD908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1A30-C2B5-4142-A132-703136C522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FCB0-94ED-4848-A242-D2C826C6FE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2302-7B13-45B6-8124-ECC45270CA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2C8B-9111-4FAF-9BC6-B32ACA16DB8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F50E-10F1-4948-B124-9A192D8040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1348-BF13-4A2C-8FB8-7AE2CA4B76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5A6B-5CBA-4391-A9B9-2F9A294BB3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D98F-CE0F-4C31-995B-F539EE0059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B0C7-E7BE-4970-9EBA-003BF91976E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7D24-7A5A-4A0A-AC47-177F0768AB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8DC-6876-4DF2-9CCE-09985DDB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85C-29B2-448A-9F2E-A4E390CE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595-2AC2-42DB-9ED7-6C88878E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B489-CF6A-4D43-800A-F1454FD9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056-978F-4557-9F86-B020BCE2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B4C5-13B0-4565-93C8-76C9068B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7A9-EA93-4367-A2A7-C3AFC7A7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BE8-F0A3-455F-8673-71D894C3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0960-B19F-4418-9AB5-22E6506E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62A-3EE2-4AD8-8BA2-B9193324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D9E-F2BF-401D-ABCA-A8D9C4DC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AC7-3635-4313-AA68-5DE054BB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27C6-F37A-4F62-B002-9DB8BB68E26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eam.cz/cz/products/rp/logframe.pdf" TargetMode="External"/><Relationship Id="rId2" Type="http://schemas.openxmlformats.org/officeDocument/2006/relationships/hyperlink" Target="http://www.partnerstvi-jmk.cz/page.php?action=detail&amp;id=94" TargetMode="External"/><Relationship Id="rId3" Type="http://schemas.openxmlformats.org/officeDocument/2006/relationships/hyperlink" Target="http://www.logframe.cz/metoda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s://forum.esfcr.cz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Specifická kritéria výzvy č. 76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92000" y="2492280"/>
            <a:ext cx="6551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76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če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ý má projekt splnit (jen jeden); čeho hodláme dosáhnout; skutečný motiv; změna, kterou chceme dosáhnout (i když jí třeba nedosáhne jenom jeden projekt). Účel vyjadřuje cíl, ne aktivity; bezprostřední důvod, proč se do projektu pouštíme. O naplnění změny usilujeme výstupy a výsledky (příp. i dop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CHCEME DOSÁHNOUT, JESTLIŽE PROVEDEME AK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Účelem projektu ve výzvě 76 by mělo být zlepšení situace v definovaných oblastech trhu prá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rizontální a vertikální rozdělení trhu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íra platové nerovnosti žen a muž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stup zaměstnavatelů ke slaďování prac. a rodinné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urávání genderových stereoty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Firmy jsou motivovány zavézt relevantní opatření pro slaďování rodinného a pracovního života (MPS, regionu X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Šipka doprava 5"/>
          <p:cNvSpPr/>
          <p:nvPr/>
        </p:nvSpPr>
        <p:spPr>
          <a:xfrm>
            <a:off x="463680" y="303228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90" name="Šipka doprava 5"/>
          <p:cNvSpPr/>
          <p:nvPr/>
        </p:nvSpPr>
        <p:spPr>
          <a:xfrm>
            <a:off x="466560" y="5427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stupy a 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oužící pro dosažení účelu proje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y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se skutečně zrealizovalo; realizátoři projektu nesou za jejich dosažní přímou odpovědnost (za splně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pokladů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); konkrétní popis toho, co se vytvoří, zdokonalí, inovuje…); je-li jich více -- nutno je popsat a očís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rovedené genderové audity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interní směrnice k zavádění relevantní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statistika využívání genderových opatř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- okamžité dopady projektu (čeho bude s ukončením projektu dosaženo) - používá se trpný rod (ve tvaru přídavného jména) popisující situaci na konci projektu (inovovaný produkt, motivované firmy pro prosazování tématu slaďov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zlepšení přístupu firem v regionu XY k problematice slaďování rodinného  pracovní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zaměstnanosti v regionu díky využití gender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loužící k dosažení výstupů - ke každému výstupu přiřadit 2-4 aktivity se zdroji dostupnými pro vytvoření výstupů; činnosti, které jsou předmětem projektu (jejich logická a časová posloupnost) - jak bude projekt realizo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Genderový audit ve firm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uzní kulatý stů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í interních směrnic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stavení výsledků zaměstnancům pod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ojení Úřadu práce ČR - propagace podpory slaďování při nabízení práce a při jednání s ostatními podniky zapojenými do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pracování statistiky využívání n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vantitativní výzkum a evaluace v regionu (firmá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 vyplnění sloupce intervenčních cílů ově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rtikální logiku pomocí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/Pak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usí být uvedeny všechny faktory ovlivňující dosažení vyšší úrovně (dosažení vyšší úrovně je podmíněno splněním úrovně niž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jektivně ověřitelné ukazatel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it lze jen to, co lze měřit (u aktivit se uvádějí ukazatelé vstupů) - co, kolik, kdy, pro koho, kde. Pro měření jedné aktivity, výsledku či výstupů, a účelu - 2-3 ukazate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 projektech financovaných ze strukturálních fondů je dobré vycházet ze seznamu monitorovacích ukazatelů pro dané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5 firem projde genderovým auditem (počet podpořených osob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0% zaměstnanců využije zaveden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droje objektivního ověřen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 - pouze ukazatele, které je možno ověřit-- tj. valid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jsou-li jasné zdroje, je nutno v projektu učinit opatření, které povedou k jejich získání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 aktivit -- časový údaj o začátku a ukončení každé ak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na jednotlivých úrovních logického rámce -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izika přeformulovat do pozitivní podoby jako 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ředpokládáme o vnějších faktorech, na něž projekt nemá vliv, ale které mohou ovlivnit jeho realizaci a dlouhodobě i jeho udržitel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povědi jsou strukturovány podle jednotlivých úrovní Cílů, Účelů, Výstupů a Aktivit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ledním řádkem tohoto sloupce jsou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běžné podmín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řipravenost k realizaci), jejichž splnění podmiňuje zahájení cel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říprava projektu a jeho schválení poskytovatelem dotace, schopný realizační tým a genderový exper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Plátno 26"/>
          <p:cNvGrpSpPr/>
          <p:nvPr/>
        </p:nvGrpSpPr>
        <p:grpSpPr>
          <a:xfrm>
            <a:off x="1187280" y="1665360"/>
            <a:ext cx="6913800" cy="3995640"/>
            <a:chOff x="1187280" y="1665360"/>
            <a:chExt cx="6913800" cy="3995640"/>
          </a:xfrm>
        </p:grpSpPr>
        <p:sp>
          <p:nvSpPr>
            <p:cNvPr id="102" name="Obdélník 30"/>
            <p:cNvSpPr/>
            <p:nvPr/>
          </p:nvSpPr>
          <p:spPr>
            <a:xfrm>
              <a:off x="1187280" y="1665360"/>
              <a:ext cx="691380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pic>
          <p:nvPicPr>
            <p:cNvPr id="103" name="Picture 32" descr=""/>
            <p:cNvPicPr/>
            <p:nvPr/>
          </p:nvPicPr>
          <p:blipFill>
            <a:blip r:embed="rId1"/>
            <a:stretch/>
          </p:blipFill>
          <p:spPr>
            <a:xfrm>
              <a:off x="1187280" y="1838880"/>
              <a:ext cx="6361920" cy="316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Line 33"/>
            <p:cNvSpPr/>
            <p:nvPr/>
          </p:nvSpPr>
          <p:spPr>
            <a:xfrm>
              <a:off x="2945160" y="2590920"/>
              <a:ext cx="0" cy="168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5" name="Text Box 34"/>
            <p:cNvSpPr/>
            <p:nvPr/>
          </p:nvSpPr>
          <p:spPr>
            <a:xfrm>
              <a:off x="2462040" y="24901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6" name="Text Box 35"/>
            <p:cNvSpPr/>
            <p:nvPr/>
          </p:nvSpPr>
          <p:spPr>
            <a:xfrm>
              <a:off x="2478240" y="39819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4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7" name="Text Box 36"/>
            <p:cNvSpPr/>
            <p:nvPr/>
          </p:nvSpPr>
          <p:spPr>
            <a:xfrm>
              <a:off x="7005240" y="450288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6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8" name="Text Box 37"/>
            <p:cNvSpPr/>
            <p:nvPr/>
          </p:nvSpPr>
          <p:spPr>
            <a:xfrm>
              <a:off x="2945160" y="25718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5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9" name="Text Box 38"/>
            <p:cNvSpPr/>
            <p:nvPr/>
          </p:nvSpPr>
          <p:spPr>
            <a:xfrm>
              <a:off x="2478240" y="29397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2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0" name="Text Box 39"/>
            <p:cNvSpPr/>
            <p:nvPr/>
          </p:nvSpPr>
          <p:spPr>
            <a:xfrm>
              <a:off x="2478240" y="34401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3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1" name="Line 40"/>
            <p:cNvSpPr/>
            <p:nvPr/>
          </p:nvSpPr>
          <p:spPr>
            <a:xfrm flipH="1" flipV="1">
              <a:off x="3251880" y="4213080"/>
              <a:ext cx="3805560" cy="63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2" name="Text Box 41"/>
            <p:cNvSpPr/>
            <p:nvPr/>
          </p:nvSpPr>
          <p:spPr>
            <a:xfrm>
              <a:off x="3498480" y="32666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8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3" name="Text Box 42"/>
            <p:cNvSpPr/>
            <p:nvPr/>
          </p:nvSpPr>
          <p:spPr>
            <a:xfrm>
              <a:off x="2931480" y="490896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4" name="Text Box 43"/>
            <p:cNvSpPr/>
            <p:nvPr/>
          </p:nvSpPr>
          <p:spPr>
            <a:xfrm>
              <a:off x="3505320" y="27457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9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3505320" y="37875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7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6" name="Line 45"/>
            <p:cNvSpPr/>
            <p:nvPr/>
          </p:nvSpPr>
          <p:spPr>
            <a:xfrm>
              <a:off x="3560760" y="41554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7" name="Line 46"/>
            <p:cNvSpPr/>
            <p:nvPr/>
          </p:nvSpPr>
          <p:spPr>
            <a:xfrm flipH="1" flipV="1">
              <a:off x="3498480" y="3750840"/>
              <a:ext cx="3558960" cy="40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8" name="Line 47"/>
            <p:cNvSpPr/>
            <p:nvPr/>
          </p:nvSpPr>
          <p:spPr>
            <a:xfrm>
              <a:off x="3560760" y="363456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9" name="Line 48"/>
            <p:cNvSpPr/>
            <p:nvPr/>
          </p:nvSpPr>
          <p:spPr>
            <a:xfrm flipH="1" flipV="1">
              <a:off x="3498480" y="322848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0" name="Line 49"/>
            <p:cNvSpPr/>
            <p:nvPr/>
          </p:nvSpPr>
          <p:spPr>
            <a:xfrm>
              <a:off x="3560760" y="31132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1" name="Line 50"/>
            <p:cNvSpPr/>
            <p:nvPr/>
          </p:nvSpPr>
          <p:spPr>
            <a:xfrm flipH="1" flipV="1">
              <a:off x="3498480" y="270720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2" name="Oval 51"/>
            <p:cNvSpPr/>
            <p:nvPr/>
          </p:nvSpPr>
          <p:spPr>
            <a:xfrm>
              <a:off x="1840680" y="1665360"/>
              <a:ext cx="6260400" cy="3995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3" name="Line 52"/>
            <p:cNvSpPr/>
            <p:nvPr/>
          </p:nvSpPr>
          <p:spPr>
            <a:xfrm>
              <a:off x="4295520" y="2359800"/>
              <a:ext cx="1596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4" name="Text Box 53"/>
            <p:cNvSpPr/>
            <p:nvPr/>
          </p:nvSpPr>
          <p:spPr>
            <a:xfrm>
              <a:off x="42955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1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5" name="Text Box 54"/>
            <p:cNvSpPr/>
            <p:nvPr/>
          </p:nvSpPr>
          <p:spPr>
            <a:xfrm>
              <a:off x="53863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2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ečné čtení matice log.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ázek 28" descr=""/>
          <p:cNvPicPr/>
          <p:nvPr/>
        </p:nvPicPr>
        <p:blipFill>
          <a:blip r:embed="rId1"/>
          <a:srcRect l="14214" t="33060" r="12230" b="10538"/>
          <a:stretch/>
        </p:blipFill>
        <p:spPr>
          <a:xfrm>
            <a:off x="611280" y="1596960"/>
            <a:ext cx="77058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Příručka pro řízení rozvojových partnerství, Ministerstvo práce a sociálních věcí, 2008, str. 28-42. Dostupné z WWW: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http://www.equalcr.cz/files/clanky/7/Prirucka_pro_rizeni_rozvojovych_partnerstvi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HUDOBA, Roman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Formulace projektu metodou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am.cz/cz/products/rp/logframe.pdf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ACKO, Branislav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y a techniky projekt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in Sborník vybraných kapitol z přípravy a řízení projektů. Výukový materiál z projektu Euromanažer. Krajské zařízení pro další vzdělávání pedagogických pracovníků a informační centrum, Nový Jičín, příspěvková Orga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atice logického rámce. Metodický návod tvorby a použití logického rámc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Modul III.Akreditovaný vzdělávací program Mobilní projektový inkubátor. 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artnerstvi-jmk.cz/page.php?action=detail&amp;id=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a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ogframe.cz/metod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Národní ústav odborného vzdělávání.: 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Jak připravit projekty financované z evropských fondů v období 2007-2013 -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ožnosti čerpání prostředků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prava a zpracování projektu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Konkrétní rady pro tvorbu a podávání projektu. 1. Vyd., Praha, 2008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d1131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lavním smyslem tvorby partnerství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zká vzájemná spolupráce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ůzných typů organ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é disponují odlišnými zkušenostmi s řešením problematiky v dané oblasti (vymezené jak regionálně, tak i tematicky) při realizaci projektu. Partneři se podílejí na fungování a naplňování cíle společného projektu, spoluúčast všech partnerů na projektu je podstatná a nezastupiteln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Český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s finančním příspěv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bez finančního příspěv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musí patřit mezi oprávněné žadatele ve výzvě č. 7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Výjimku tvoří Úřad práce ČR, který může být partnerem, ovšem bez finančního příspěv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Ostatní organizační složky státu a jimi zřizované organizace mohou být pouze spolupracujícími organizacemi, nikoli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Šipka doprava 3"/>
          <p:cNvSpPr/>
          <p:nvPr/>
        </p:nvSpPr>
        <p:spPr>
          <a:xfrm>
            <a:off x="587520" y="170028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3" name="Šipka doprava 4"/>
          <p:cNvSpPr/>
          <p:nvPr/>
        </p:nvSpPr>
        <p:spPr>
          <a:xfrm>
            <a:off x="528480" y="4446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esmí být založena na poskytování služeb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ěžně dostupných na trh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Realizace principu partnerství nesmí být v rozporu s příslušnými právními předpisy ČR, zejména principu partnerství nesmí být zneužito k obcházení zákona o veřejných zakázk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stejného typu subjektů – např. NNO a NNO, podnikatelský subjekt a podnikatelský subjekt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dvou typů subjektů – např. NNO a podnikatelský subjekt, NNO a místní samospráva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6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partnerství tří a více typů subjektů – např. NNO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12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 jeden typ organizace jsou považovány všechny její právní fo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čet partnerů není rozhodující, body jsou přiděleny na základě propojení různých typů organiz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Šipka doprava 4"/>
          <p:cNvSpPr/>
          <p:nvPr/>
        </p:nvSpPr>
        <p:spPr>
          <a:xfrm>
            <a:off x="555480" y="134136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7" name="Šipka doprava 5"/>
          <p:cNvSpPr/>
          <p:nvPr/>
        </p:nvSpPr>
        <p:spPr>
          <a:xfrm>
            <a:off x="582480" y="4941720"/>
            <a:ext cx="649440" cy="368640"/>
          </a:xfrm>
          <a:prstGeom prst="rightArrow">
            <a:avLst>
              <a:gd name="adj1" fmla="val 50000"/>
              <a:gd name="adj2" fmla="val 5011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hody, klady, příležitosti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chopnost identifikovat problémy a potřeby a vyvinou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inné způsoby jejich ře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šíření projektových zdrojů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dovedností, znalostí, organizační kapacit, finančních zdro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řet rozmanitých zkušeností a myšlenek –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vůrčí řešení a ino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Mnohostranné řešení mnohostranných (komplexních) problémů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každý přispívá něčím, co ti druzí nemají, neznají nebo neu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nikatelský sektor a veřejný sektor –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ení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ý sektor a neziskový sektor –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ájmy a potřeby li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ziskový a podnikatelský sektor –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ružnost, iniciativa, efekti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ziskový sektor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rádá často finanční zdroje (materiál i lid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nikatelský sektor – postrádá veřejný zá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ý sektor – postrádá podnikavost, odvahu začít, pružno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efekti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ynergie – partneři toho spolu dokáží víc, než každý sám (1+1&lt;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5"/>
          <p:cNvSpPr/>
          <p:nvPr/>
        </p:nvSpPr>
        <p:spPr>
          <a:xfrm>
            <a:off x="539640" y="3500280"/>
            <a:ext cx="647640" cy="370080"/>
          </a:xfrm>
          <a:prstGeom prst="rightArrow">
            <a:avLst>
              <a:gd name="adj1" fmla="val 50000"/>
              <a:gd name="adj2" fmla="val 49786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1" name="Šipka doprava 4"/>
          <p:cNvSpPr/>
          <p:nvPr/>
        </p:nvSpPr>
        <p:spPr>
          <a:xfrm>
            <a:off x="539640" y="444672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výhody, zápory, rizika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íc partnerů = víc lidí = více pohledů na věc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→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íce času a úsil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třebného k přesvědčení ostatních, k dosažení konsensu a k přijetí 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 si nemůže dělat vše jen dle svého – musí brá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hledy na partn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polupráce postavena na jasném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uvním a právním základě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jeden z partnerů má konečnou zodpovědnost za pro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vyžaduje řízení a s tím i dobré komunikační dov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nvalidní partnerství – partnerství bez reálné rovnoprávnosti, bez podílu na rozhodování či bez dostatečné informovanosti některých čle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Pozor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!!!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na partnery, kteří jsou neužiteční, mají nevhodné cíle, nebo chtějí ostatní jen využít. Do projektu nic nepřináší – peníze, know how či lidské zdroje, ale chtějí pouze „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moci s real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“ jakožto dodavatel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ít či nemít partnera? Pokud ano, ko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ůležité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artneři do projektu přines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uznatelní v rámci výzv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á bude partnerova úloha v projek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ý bude jejich závazek, jak ho přijmou a jak ho napl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 logicky do sebe zapadají jednotlivé úlohy partnerů? – nejsou někde mezery? Nedublují se určité aktivity? Existují třecí plochy, konflik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i přípravě partnerského pro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lze ušetřit čas – je třeba mnoho setkání, diskuzí či alespoň e-mai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jistit rovnost účastníků – každý by měl něčím přispět – silnější identifikace s projek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 opravdu společná ochota podílet se na získávání a využívání společných finančních prostředk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dnotí se použití metody logického rámce, která umožňuje navržení a uspořádání základních charakteristik projektu ve vzájemných souvislo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nitřní logika projektu prokázaná v matici logického rámce, je založena na princip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íčiny a důsled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hora dolů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Aby – Je tře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zdola nahoru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 – 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V Jestliže/Pak testu mus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ýt uvedeny všechny faktory ovlivňující dosažení vyšší úrovně (dosažení vyšší úrovně je podmíněno splněním nižší úrov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me ty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ivity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sáhneme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dosáhli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lze očekávat tu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měn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)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splnili ten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jsm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spěli k naplnění toho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becného cí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brý projekt má zvolené monitorovací ukazatele přiměřené a realistické, cíle jsou vždy kvantifikované a stanovené cílové hodnoty jsou dosažitelné (z hlediska času a rozpočtu) a vedou k měřitelným dopadů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předložení LR -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0 bodů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ložení LR –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3 bo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Šipka doprava 5"/>
          <p:cNvSpPr/>
          <p:nvPr/>
        </p:nvSpPr>
        <p:spPr>
          <a:xfrm>
            <a:off x="520560" y="3645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9" name="Šipka doprava 5"/>
          <p:cNvSpPr/>
          <p:nvPr/>
        </p:nvSpPr>
        <p:spPr>
          <a:xfrm>
            <a:off x="500040" y="269892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16000" y="1468440"/>
            <a:ext cx="7704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03280" y="1663560"/>
          <a:ext cx="7201080" cy="435924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  <a:gridCol w="1800360"/>
              </a:tblGrid>
              <a:tr h="1311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intervenční logika (strom cílů)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Velmi obecné proč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ivně měřitelné ukazatele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zdroje a prostředky k ověření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vnější předpoklady a rizika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čel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Proč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Co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it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Jak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3" name="Zahnutá šipka doleva 8"/>
          <p:cNvSpPr/>
          <p:nvPr/>
        </p:nvSpPr>
        <p:spPr>
          <a:xfrm>
            <a:off x="3008160" y="3687840"/>
            <a:ext cx="601920" cy="8636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3640"/>
              <a:gd name="textAreaBottom" fmla="*/ 6289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4" name="Zahnutá šipka doleva 10"/>
          <p:cNvSpPr/>
          <p:nvPr/>
        </p:nvSpPr>
        <p:spPr>
          <a:xfrm>
            <a:off x="3008160" y="2708280"/>
            <a:ext cx="601920" cy="86508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5080"/>
              <a:gd name="textAreaBottom" fmla="*/ 63000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5" name="Zahnutá šipka doleva 11"/>
          <p:cNvSpPr/>
          <p:nvPr/>
        </p:nvSpPr>
        <p:spPr>
          <a:xfrm>
            <a:off x="3008160" y="4724280"/>
            <a:ext cx="601920" cy="8654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840 h 865440"/>
              <a:gd name="textAreaBottom" fmla="*/ 6303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6" name="Zahnutá šipka doprava 7"/>
          <p:cNvSpPr/>
          <p:nvPr/>
        </p:nvSpPr>
        <p:spPr>
          <a:xfrm>
            <a:off x="395280" y="465300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64160 h 792000"/>
              <a:gd name="textAreaBottom" fmla="*/ 5828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9" stAng="-5400000" swAng="-5400000"/>
                <a:lnTo>
                  <a:pt x="0" y="11414"/>
                </a:lnTo>
                <a:arcTo wR="21600" hR="8959" stAng="10800000" swAng="-3485831"/>
                <a:lnTo>
                  <a:pt x="16200" y="21316"/>
                </a:lnTo>
                <a:lnTo>
                  <a:pt x="21600" y="19146"/>
                </a:lnTo>
                <a:lnTo>
                  <a:pt x="16200" y="16407"/>
                </a:lnTo>
                <a:lnTo>
                  <a:pt x="16200" y="17634"/>
                </a:lnTo>
                <a:arcTo wR="21600" hR="8959" stAng="7314169" swAng="3288825"/>
                <a:lnTo>
                  <a:pt x="204" y="10187"/>
                </a:lnTo>
                <a:arcTo wR="21600" hR="8959" stAng="-10602993" swAng="5202993"/>
                <a:close/>
              </a:path>
              <a:path fill="darkenLess" w="21600" h="21600">
                <a:moveTo>
                  <a:pt x="21600" y="0"/>
                </a:moveTo>
                <a:arcTo wR="21600" hR="8959" stAng="-5400000" swAng="-5400000"/>
                <a:lnTo>
                  <a:pt x="0" y="8959"/>
                </a:lnTo>
                <a:arcTo wR="21600" hR="8959" stAng="10800000" swAng="-197007"/>
                <a:lnTo>
                  <a:pt x="204" y="10187"/>
                </a:lnTo>
                <a:arcTo wR="21600" hR="8959" stAng="-10602993" swAng="5202993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7" name="Zahnutá šipka nahoru 12"/>
          <p:cNvSpPr/>
          <p:nvPr/>
        </p:nvSpPr>
        <p:spPr>
          <a:xfrm>
            <a:off x="395280" y="4653000"/>
            <a:ext cx="549360" cy="647640"/>
          </a:xfrm>
          <a:custGeom>
            <a:avLst/>
            <a:gdLst>
              <a:gd name="textAreaLeft" fmla="*/ 85680 w 549360"/>
              <a:gd name="textAreaRight" fmla="*/ 394920 w 549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313283"/>
                <a:lnTo>
                  <a:pt x="21446" y="4581"/>
                </a:lnTo>
                <a:lnTo>
                  <a:pt x="16200" y="0"/>
                </a:lnTo>
                <a:lnTo>
                  <a:pt x="10646" y="4581"/>
                </a:lnTo>
                <a:lnTo>
                  <a:pt x="13346" y="4581"/>
                </a:lnTo>
                <a:arcTo wR="6750" hR="21600" stAng="2086717" swAng="2847297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8" name="AutoShape 44"/>
          <p:cNvSpPr/>
          <p:nvPr/>
        </p:nvSpPr>
        <p:spPr>
          <a:xfrm flipH="1" flipV="1">
            <a:off x="1151640" y="4579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9" name="AutoShape 44"/>
          <p:cNvSpPr/>
          <p:nvPr/>
        </p:nvSpPr>
        <p:spPr>
          <a:xfrm flipH="1" flipV="1">
            <a:off x="1162800" y="2482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0" name="AutoShape 44"/>
          <p:cNvSpPr/>
          <p:nvPr/>
        </p:nvSpPr>
        <p:spPr>
          <a:xfrm flipH="1" flipV="1">
            <a:off x="1162800" y="3539520"/>
            <a:ext cx="438120" cy="865080"/>
          </a:xfrm>
          <a:custGeom>
            <a:avLst/>
            <a:gdLst>
              <a:gd name="textAreaLeft" fmla="*/ 58680 w 438120"/>
              <a:gd name="textAreaRight" fmla="*/ 379440 w 43812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1" name="TextovéPole 14"/>
          <p:cNvSpPr/>
          <p:nvPr/>
        </p:nvSpPr>
        <p:spPr>
          <a:xfrm>
            <a:off x="3708360" y="3348000"/>
            <a:ext cx="14400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Aby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Je třeba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2" name="TextovéPole 19"/>
          <p:cNvSpPr/>
          <p:nvPr/>
        </p:nvSpPr>
        <p:spPr>
          <a:xfrm>
            <a:off x="-19080" y="4863960"/>
            <a:ext cx="133344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Jestliže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ecný (hlavní) cí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 jehož naplnění projekt přispěje; cíl, k jehož dosažení je projekt jen jednou z podmínek; důvod realizace ve spojení s prioritami v operačních programech (či programových dodatcí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vádíme, k dosažení jakého cíle přispějeme, jestliže splníme účel, pro který    jsme se do projektu pouštěli. Hlavní cíl v logickém rámci by měl odpovídat hlavnímu cíli v daném opatření 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ANOVÉNÍ OBECNÉHO CÍLE - CO CHCEME DOSÁHNOU    OBECNĚ, JESTLIŽE SPLNÍME ÚČ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oblast podpory 3. 4 je obecným cílem podpora Rovných příležitostí žen a mužů na trhu práce a slaďování pracovního a rodinného živ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slaďování rodinného a pracovního života (v regionu XY, v MS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Šipka doprava 5"/>
          <p:cNvSpPr/>
          <p:nvPr/>
        </p:nvSpPr>
        <p:spPr>
          <a:xfrm>
            <a:off x="493560" y="35892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6" name="Šipka doprava 5"/>
          <p:cNvSpPr/>
          <p:nvPr/>
        </p:nvSpPr>
        <p:spPr>
          <a:xfrm>
            <a:off x="493560" y="5661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1-06-17T12:58:40Z</dcterms:modified>
  <cp:revision>1010</cp:revision>
  <dc:subject/>
  <dc:title>Snímek 1</dc:title>
</cp:coreProperties>
</file>